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9.png" ContentType="image/png"/>
  <Override PartName="/ppt/media/image65.jpeg" ContentType="image/jpeg"/>
  <Override PartName="/ppt/media/image48.jpeg" ContentType="image/jpeg"/>
  <Override PartName="/ppt/media/image10.jpeg" ContentType="image/jpeg"/>
  <Override PartName="/ppt/media/image5.jpeg" ContentType="image/jpeg"/>
  <Override PartName="/ppt/media/image32.png" ContentType="image/png"/>
  <Override PartName="/ppt/media/image2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8.jpeg" ContentType="image/jpeg"/>
  <Override PartName="/ppt/media/image40.png" ContentType="image/png"/>
  <Override PartName="/ppt/media/image61.jpeg" ContentType="image/jpeg"/>
  <Override PartName="/ppt/media/image4.jpeg" ContentType="image/jpeg"/>
  <Override PartName="/ppt/media/image36.jpeg" ContentType="image/jpeg"/>
  <Override PartName="/ppt/media/image20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9.jpeg" ContentType="image/jpeg"/>
  <Override PartName="/ppt/media/image33.jpeg" ContentType="image/jpeg"/>
  <Override PartName="/ppt/media/image27.png" ContentType="image/png"/>
  <Override PartName="/ppt/media/image29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6.jpeg" ContentType="image/jpeg"/>
  <Override PartName="/ppt/media/image14.jpeg" ContentType="image/jpeg"/>
  <Override PartName="/ppt/media/image54.png" ContentType="image/png"/>
  <Override PartName="/ppt/media/image8.png" ContentType="image/png"/>
  <Override PartName="/ppt/media/image39.jpeg" ContentType="image/jpeg"/>
  <Override PartName="/ppt/media/image11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30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41.png" ContentType="image/png"/>
  <Override PartName="/ppt/media/image42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C934-B953-48B2-9059-68BC044BB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6DBA-7184-471B-BE34-B10EEB994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EAA6-99CA-4A3B-90FD-137425B99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02B6-F6D5-4AE7-B6B5-83D6FEF57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F07B-8B93-4D4F-8C4C-9B50D81EC6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3E3A-250D-4CC2-BFC6-9A874BD1E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CDFA-6BEB-46CC-806B-38737C6F1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4E87-8B79-4F91-86D1-25B2D3D7C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928C-3F43-4054-A7E3-AF24ABD3A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297C-9553-4A8A-B807-395D424C9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B9D5-9D6A-49C4-8BCD-009D1670C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289B-E59C-4518-B97F-65718BEBB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&amp;f"/>
          <p:cNvPicPr/>
          <p:nvPr/>
        </p:nvPicPr>
        <p:blipFill>
          <a:blip r:embed="rId2"/>
          <a:stretch/>
        </p:blipFill>
        <p:spPr>
          <a:xfrm>
            <a:off x="8229600" y="650232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1148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32a2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- </a:t>
            </a:r>
            <a:fld id="{EBE140E4-3142-4B08-85B9-49CDFC810CC8}" type="slidenum">
              <a:rPr b="1" lang="ru-RU" sz="1400" spc="-1" strike="noStrike">
                <a:solidFill>
                  <a:srgbClr val="732a2c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32a2c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2a2c"/>
                </a:solidFill>
                <a:latin typeface="Times New Roman"/>
              </a:rPr>
              <a:t>Основы практического брендинга </a:t>
            </a:r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&amp;f"/>
          <p:cNvPicPr/>
          <p:nvPr/>
        </p:nvPicPr>
        <p:blipFill>
          <a:blip r:embed="rId3"/>
          <a:stretch/>
        </p:blipFill>
        <p:spPr>
          <a:xfrm>
            <a:off x="8229600" y="6502320"/>
            <a:ext cx="6858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0" y="14097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1765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снов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актического брендин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8028000" y="6267600"/>
            <a:ext cx="111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7128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2200" y="1773360"/>
            <a:ext cx="8497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может быть предложено на рынке для привлечения внимания, ознакомления, использования или потребления и что может удовлетворить чью-либо потре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ами могут быть физические объекты, услуги, мест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ен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и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8147160" y="6335640"/>
            <a:ext cx="99684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0268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357120" y="2254320"/>
            <a:ext cx="842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 – это практические выгоды от использования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395280" y="1328760"/>
            <a:ext cx="655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 бренда так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я как «Reebok» рациональны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год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должны быть априори – он должен быть прочный, он должен быть ноский, он должен быть легкий, он должен быть красивы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395280" y="3860640"/>
            <a:ext cx="662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 в «IKEA» отличаются приятным современным дизайном, функциональностью (самостоятельная сборка мебели) и отличным качеством для разумной це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7" descr="reebok"/>
          <p:cNvPicPr/>
          <p:nvPr/>
        </p:nvPicPr>
        <p:blipFill>
          <a:blip r:embed="rId1"/>
          <a:stretch/>
        </p:blipFill>
        <p:spPr>
          <a:xfrm>
            <a:off x="6948360" y="1625760"/>
            <a:ext cx="1873440" cy="1011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ikea-groot"/>
          <p:cNvPicPr/>
          <p:nvPr/>
        </p:nvPicPr>
        <p:blipFill>
          <a:blip r:embed="rId2"/>
          <a:stretch/>
        </p:blipFill>
        <p:spPr>
          <a:xfrm>
            <a:off x="7020000" y="4152960"/>
            <a:ext cx="1722240" cy="129204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Рисунок 1" descr=""/>
          <p:cNvPicPr/>
          <p:nvPr/>
        </p:nvPicPr>
        <p:blipFill>
          <a:blip r:embed="rId3"/>
          <a:stretch/>
        </p:blipFill>
        <p:spPr>
          <a:xfrm>
            <a:off x="8169120" y="6351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492120" y="118260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762120" y="113976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 – эмоциональные удовлетворения, которые получает потребитель от использования этого брен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6"/>
          <p:cNvGrpSpPr/>
          <p:nvPr/>
        </p:nvGrpSpPr>
        <p:grpSpPr>
          <a:xfrm>
            <a:off x="581040" y="2781360"/>
            <a:ext cx="8137440" cy="2345400"/>
            <a:chOff x="581040" y="2781360"/>
            <a:chExt cx="8137440" cy="2345400"/>
          </a:xfrm>
        </p:grpSpPr>
        <p:sp>
          <p:nvSpPr>
            <p:cNvPr id="730" name="Text Box 7"/>
            <p:cNvSpPr/>
            <p:nvPr/>
          </p:nvSpPr>
          <p:spPr>
            <a:xfrm>
              <a:off x="2236680" y="3357360"/>
              <a:ext cx="396180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Идеологическ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Психологическ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Социальн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Культурн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8"/>
            <p:cNvSpPr/>
            <p:nvPr/>
          </p:nvSpPr>
          <p:spPr>
            <a:xfrm>
              <a:off x="581040" y="2781360"/>
              <a:ext cx="813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4 типа эмоционального удовлетворения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Рисунок 9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ологическ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179280" y="3351240"/>
            <a:ext cx="878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инеральная вода «Святой источник», лозунг «В каждом из нас есть частица святого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триотиз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иво «Три богатыря», лозунг: «Знай наше пиво!» Эмоциональная ценность: наше (российское) пиво – лучшее пиво в мир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колог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кусственный мех или вегетарианский ресторан – охрана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равствен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stern Uni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– не просто перевод денег, а забота о родителях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исутствует от рекламы кондитерских изделий (ТМ «Эстье») до рекламы мыла (мыло «Каме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2743200" y="1201680"/>
            <a:ext cx="3629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2057400" y="1341360"/>
            <a:ext cx="5683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е удовл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ственное стиму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200160" y="3182760"/>
            <a:ext cx="878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клама программных продуктов (я буду работа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олее эффектив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стиж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кламные кампании бритв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llet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всегда были связаны с высшими достижениями в своей товар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е удовлетвор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Эта эмоциональная ценность в своих разных проявлениях присутствует у многих брендов: от женских прокладок (мне удобно), до продуктов питания (мне нравится вку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мственное стимулирова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ьютеры «Формоза». Купите ребенку компьютер, и ребенок будет лучше учиться! Продукты с йодом («Йодомарин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468360" y="328932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адлежность к групп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дание автомобилем «Мерседес» говорит больше о статусе водителя, чем о его водительском масте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жб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во «Золотая бочка». Надо чаще встречаться! Альфа-банк, лозунг «Это мой банк», Торговый дом «Айсберг» (бытовая техника), лозунг «Давайте дружить домами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бов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рговая марка «Мечта хозяйки» – эксплуатация персонажей Катерины и Георгия из фильма «Москва слезам не вери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орговая марка «Моя семья» и этим все сказа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иво «Тинькофф». Лозунг: «Он один тако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1981080" y="1130400"/>
            <a:ext cx="5257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адлежность к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льтурн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395280" y="332424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коны (символы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сероксы от компании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рояли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inwa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которые уже выпускаются пару веков – это символы товар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ллектуальное лидерство в категор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кропроцессор «Пентиум» компании «Интел». Многие торговые марки, производящие компьют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ховное лидерство в категор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тоциклы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ley Davids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– дух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льтовый стату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утбольные клубы «Манчестер Юнайтед» и «Спартак» – культовые ид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900000" y="1413000"/>
            <a:ext cx="7481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коны (симво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ллектуальное лидерство в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уховное лидерство в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льтовый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516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457200" y="1301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495360" y="148752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– эта модель позволяет маркетологу лучше понять, какими качествами должен быть наделен бре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495360" y="28576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то модель, которую создают маркетоло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на не «живет» в сознании потребител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52280" y="1295280"/>
            <a:ext cx="45720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варный знак – обозначение, способное отличать товары и услуги одних юридических или физических лиц от однородных товаров и от услуг других юридических или физичес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Закон РФ «О товарных знаках, знаках обслуживания и наименованиях мест происхождения товар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Три воды"/>
          <p:cNvPicPr/>
          <p:nvPr/>
        </p:nvPicPr>
        <p:blipFill>
          <a:blip r:embed="rId1"/>
          <a:stretch/>
        </p:blipFill>
        <p:spPr>
          <a:xfrm>
            <a:off x="5162400" y="1368360"/>
            <a:ext cx="3802320" cy="47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8170920" y="6372360"/>
            <a:ext cx="97308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380880" y="990720"/>
            <a:ext cx="7070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лина Бланк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енькая усердная хозяйка в возрасте. Очень любит своего мужа и своих детей. Ей нравится приготовить для своей семьи что-то вкусненькое. У нее есть свои кулинарные секре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6" descr="Галина Бланка"/>
          <p:cNvPicPr/>
          <p:nvPr/>
        </p:nvPicPr>
        <p:blipFill>
          <a:blip r:embed="rId1"/>
          <a:stretch/>
        </p:blipFill>
        <p:spPr>
          <a:xfrm>
            <a:off x="7451640" y="1100160"/>
            <a:ext cx="1441440" cy="139212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7"/>
          <p:cNvSpPr/>
          <p:nvPr/>
        </p:nvSpPr>
        <p:spPr>
          <a:xfrm>
            <a:off x="395280" y="3852720"/>
            <a:ext cx="838188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ный, мужественный человек, который выбирает лучшее в одежде, обуви и во всем остальном. Он заботится о своем здоровье, стремится к совершенству, готов к инновац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8"/>
          <p:cNvGrpSpPr/>
          <p:nvPr/>
        </p:nvGrpSpPr>
        <p:grpSpPr>
          <a:xfrm>
            <a:off x="7236000" y="3500280"/>
            <a:ext cx="1728720" cy="863640"/>
            <a:chOff x="7236000" y="3500280"/>
            <a:chExt cx="1728720" cy="863640"/>
          </a:xfrm>
        </p:grpSpPr>
        <p:pic>
          <p:nvPicPr>
            <p:cNvPr id="781" name="Picture 9" descr="Nike"/>
            <p:cNvPicPr/>
            <p:nvPr/>
          </p:nvPicPr>
          <p:blipFill>
            <a:blip r:embed="rId2"/>
            <a:stretch/>
          </p:blipFill>
          <p:spPr>
            <a:xfrm>
              <a:off x="7311240" y="350028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Rectangle 10"/>
            <p:cNvSpPr/>
            <p:nvPr/>
          </p:nvSpPr>
          <p:spPr>
            <a:xfrm>
              <a:off x="7236000" y="410508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Рисунок 11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457200" y="120492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24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требителя и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611280" y="1125360"/>
            <a:ext cx="792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– создать отношения, напоминающие личные. Бренд может выступать другом, наставником, консультантом, матерью, веселым приятелем, сыном и так дале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6" descr="3"/>
          <p:cNvPicPr/>
          <p:nvPr/>
        </p:nvPicPr>
        <p:blipFill>
          <a:blip r:embed="rId1"/>
          <a:stretch/>
        </p:blipFill>
        <p:spPr>
          <a:xfrm>
            <a:off x="3132000" y="2789280"/>
            <a:ext cx="3027600" cy="315432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Рисунок 7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Line 2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8960" y="21924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я 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733320" y="4508640"/>
            <a:ext cx="792504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жеское общение с сильным, мужественным человеком. Доверие его выбор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6" descr="Nike8"/>
          <p:cNvPicPr/>
          <p:nvPr/>
        </p:nvPicPr>
        <p:blipFill>
          <a:blip r:embed="rId1"/>
          <a:stretch/>
        </p:blipFill>
        <p:spPr>
          <a:xfrm>
            <a:off x="2852640" y="1455840"/>
            <a:ext cx="5175360" cy="3268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7" descr="nike1"/>
          <p:cNvPicPr/>
          <p:nvPr/>
        </p:nvPicPr>
        <p:blipFill>
          <a:blip r:embed="rId2"/>
          <a:stretch/>
        </p:blipFill>
        <p:spPr>
          <a:xfrm>
            <a:off x="611280" y="2205000"/>
            <a:ext cx="1296720" cy="103680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Рисунок 8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479520" y="1003320"/>
            <a:ext cx="8153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824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кружка"/>
          <p:cNvPicPr/>
          <p:nvPr/>
        </p:nvPicPr>
        <p:blipFill>
          <a:blip r:embed="rId1"/>
          <a:stretch/>
        </p:blipFill>
        <p:spPr>
          <a:xfrm>
            <a:off x="1835280" y="4365720"/>
            <a:ext cx="1871640" cy="177624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6"/>
          <p:cNvSpPr/>
          <p:nvPr/>
        </p:nvSpPr>
        <p:spPr>
          <a:xfrm>
            <a:off x="2971800" y="1066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 бренда служит для облегчения узнавания бренда. Символ бренда может обеспечивать целостность образа брен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7" descr="Таранов"/>
          <p:cNvPicPr/>
          <p:nvPr/>
        </p:nvPicPr>
        <p:blipFill>
          <a:blip r:embed="rId2"/>
          <a:stretch/>
        </p:blipFill>
        <p:spPr>
          <a:xfrm>
            <a:off x="179280" y="4581360"/>
            <a:ext cx="1487520" cy="15624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8" descr="зайцы"/>
          <p:cNvPicPr/>
          <p:nvPr/>
        </p:nvPicPr>
        <p:blipFill>
          <a:blip r:embed="rId3"/>
          <a:stretch/>
        </p:blipFill>
        <p:spPr>
          <a:xfrm>
            <a:off x="-173160" y="1052640"/>
            <a:ext cx="2800440" cy="20667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9" descr="мальборо"/>
          <p:cNvPicPr/>
          <p:nvPr/>
        </p:nvPicPr>
        <p:blipFill>
          <a:blip r:embed="rId4"/>
          <a:stretch/>
        </p:blipFill>
        <p:spPr>
          <a:xfrm>
            <a:off x="6261120" y="2421000"/>
            <a:ext cx="2631960" cy="3816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0" descr="bilain"/>
          <p:cNvPicPr/>
          <p:nvPr/>
        </p:nvPicPr>
        <p:blipFill>
          <a:blip r:embed="rId5"/>
          <a:stretch/>
        </p:blipFill>
        <p:spPr>
          <a:xfrm>
            <a:off x="4138560" y="4724280"/>
            <a:ext cx="1873440" cy="133848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11"/>
          <p:cNvSpPr/>
          <p:nvPr/>
        </p:nvSpPr>
        <p:spPr>
          <a:xfrm>
            <a:off x="108000" y="302904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ом может быть  лозунг, упаковка, логотип, цвет, персонаж, музыкальная фраза, благотворительная программа и так да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Рисунок 12" descr=""/>
          <p:cNvPicPr/>
          <p:nvPr/>
        </p:nvPicPr>
        <p:blipFill>
          <a:blip r:embed="rId6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457200" y="1301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0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533520" y="2209680"/>
            <a:ext cx="792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представляется как организация со своим специфическим набором ценностей, корпоративной культурой (в том числе поведение персонала), людьми и социальными программами (маркетинг событ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160" y="-27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 (социальные программ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228600" y="1108080"/>
            <a:ext cx="873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вместная социальная программа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for goo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 авиакомпании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itish Airway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 совместно с детским фондом ООН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E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, который занимается проблемами детей во всем мир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Change for Good"/>
          <p:cNvPicPr/>
          <p:nvPr/>
        </p:nvPicPr>
        <p:blipFill>
          <a:blip r:embed="rId1"/>
          <a:stretch/>
        </p:blipFill>
        <p:spPr>
          <a:xfrm>
            <a:off x="5148360" y="2421000"/>
            <a:ext cx="3024000" cy="20556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7" descr="Change for Good 1"/>
          <p:cNvPicPr/>
          <p:nvPr/>
        </p:nvPicPr>
        <p:blipFill>
          <a:blip r:embed="rId2"/>
          <a:stretch/>
        </p:blipFill>
        <p:spPr>
          <a:xfrm>
            <a:off x="1042920" y="2427120"/>
            <a:ext cx="2519280" cy="200988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8"/>
          <p:cNvSpPr/>
          <p:nvPr/>
        </p:nvSpPr>
        <p:spPr>
          <a:xfrm>
            <a:off x="250920" y="47340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 10 лет сотрудничества (1994 – 2004 годы) на пожертвования авиапассажиров было собрано 18 миллионов фунтов стерлингов, направленных на финансирование международных проектов Детского фонда ООН «UNICEF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Рисунок 9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5160" y="741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 (поведение персонал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Group 5"/>
          <p:cNvGrpSpPr/>
          <p:nvPr/>
        </p:nvGrpSpPr>
        <p:grpSpPr>
          <a:xfrm>
            <a:off x="6665760" y="3357720"/>
            <a:ext cx="1942920" cy="1209240"/>
            <a:chOff x="6665760" y="3357720"/>
            <a:chExt cx="1942920" cy="1209240"/>
          </a:xfrm>
        </p:grpSpPr>
        <p:pic>
          <p:nvPicPr>
            <p:cNvPr id="849" name="Picture 6" descr="Дисней"/>
            <p:cNvPicPr/>
            <p:nvPr/>
          </p:nvPicPr>
          <p:blipFill>
            <a:blip r:embed="rId1"/>
            <a:stretch/>
          </p:blipFill>
          <p:spPr>
            <a:xfrm>
              <a:off x="6919200" y="3357720"/>
              <a:ext cx="168948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Rectangle 7"/>
            <p:cNvSpPr/>
            <p:nvPr/>
          </p:nvSpPr>
          <p:spPr>
            <a:xfrm>
              <a:off x="6665760" y="4322160"/>
              <a:ext cx="506880" cy="24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Text Box 8"/>
          <p:cNvSpPr/>
          <p:nvPr/>
        </p:nvSpPr>
        <p:spPr>
          <a:xfrm>
            <a:off x="395280" y="10746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кламное агентство «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ирует себя, как са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агентство в городе, то в этом случа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ер этого агентства обязан дать клиенту телефоны фирм, которые оказывают рекламные услуги, не входящие в формат этого аген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9"/>
          <p:cNvSpPr/>
          <p:nvPr/>
        </p:nvSpPr>
        <p:spPr>
          <a:xfrm>
            <a:off x="395280" y="3573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служебных помещениях пар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газинов компании «Walt Disney Co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дверях, ведущих в помещения, в которых персонал компании может встретиться с потребителями весит табличка «Сцена». Это подчеркивает «театральность» работы служащих этой компании со своими потреб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5991120" y="1158840"/>
            <a:ext cx="2521080" cy="647640"/>
            <a:chOff x="5991120" y="1158840"/>
            <a:chExt cx="2521080" cy="647640"/>
          </a:xfrm>
        </p:grpSpPr>
        <p:pic>
          <p:nvPicPr>
            <p:cNvPr id="854" name="Picture 11" descr="logo"/>
            <p:cNvPicPr/>
            <p:nvPr/>
          </p:nvPicPr>
          <p:blipFill>
            <a:blip r:embed="rId2"/>
            <a:stretch/>
          </p:blipFill>
          <p:spPr>
            <a:xfrm>
              <a:off x="6208560" y="1230120"/>
              <a:ext cx="21592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Rectangle 12"/>
            <p:cNvSpPr/>
            <p:nvPr/>
          </p:nvSpPr>
          <p:spPr>
            <a:xfrm>
              <a:off x="5991120" y="1158840"/>
              <a:ext cx="252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Рисунок 13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743200" y="3683160"/>
            <a:ext cx="38098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у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28600" y="94284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400" indent="-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ачестве товарных знаков могут быть зарегистрированы словесные, изобразительные, объемные или другие обозначения или их комбин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00" indent="-5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Закон РФ «О товарных знаках, знаках обслуживания и наименованиях мест происхождения товар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8101080" y="6381720"/>
            <a:ext cx="10522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78920" y="21924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324000" y="113364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ьном случае бренд должен давать работникам организации дополнительную мотивацию, помимо получаемых ими денег. Определить работает ли бренд на уровне персонала компании можно с помощью следующих вопрос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539640" y="2616120"/>
            <a:ext cx="813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аш товар, услуга или компания дают потребителю? Станут ли мои друзья ценить меня больше за то, что я дела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озиционирована компания, в чем ее уникальность? Что она может сделать для того, чтобы я был особ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стиль этой компании? Каким, предполагается, я должен быть, и как это соотносится с тем, какой я сейча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миссия этой компании? Буду ли я чувствовать, что делаю в своей жизни что-то важ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видение этой компании, какое у нее будущее? Какое будущее ожидает меня, если я буду и дальше работать с этими людь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ются ценности, исповедуемые этой компанией? Какие ценности исповедую я, сочетаются ли с ними ценности компа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одушевляет ли меня работа в этой компании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457200" y="1230480"/>
            <a:ext cx="815328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4920" y="14436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егенда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5" descr="Healthy Choice1"/>
          <p:cNvPicPr/>
          <p:nvPr/>
        </p:nvPicPr>
        <p:blipFill>
          <a:blip r:embed="rId1"/>
          <a:stretch/>
        </p:blipFill>
        <p:spPr>
          <a:xfrm>
            <a:off x="395280" y="2216160"/>
            <a:ext cx="3024360" cy="1141560"/>
          </a:xfrm>
          <a:prstGeom prst="rect">
            <a:avLst/>
          </a:prstGeom>
          <a:ln w="0">
            <a:noFill/>
          </a:ln>
        </p:spPr>
      </p:pic>
      <p:sp>
        <p:nvSpPr>
          <p:cNvPr id="875" name="Text Box 6"/>
          <p:cNvSpPr/>
          <p:nvPr/>
        </p:nvSpPr>
        <p:spPr>
          <a:xfrm>
            <a:off x="585720" y="2305080"/>
            <a:ext cx="855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1985   году  у президента компан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Agr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случился сердечный приступ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пришлось сесть на диету. Он бы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, когда узнал, что многие продукты (в том числе и его компании) имеет высокое содержание жиров и ему противопоказаны, а выбор продуктов очень мал. Так появилась торговая марка замороженных готовых обедов 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y Choic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для людей, которые заботятся о своем здоров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108000" y="489096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работки легенды бренда «Слобода» был использован следующий факт: «впервые в мире масло из семян подсолнечника отжал крепостной крестьянин Данила Бокарев в начале 19 ве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8" descr="Слобода"/>
          <p:cNvPicPr/>
          <p:nvPr/>
        </p:nvPicPr>
        <p:blipFill>
          <a:blip r:embed="rId2"/>
          <a:stretch/>
        </p:blipFill>
        <p:spPr>
          <a:xfrm>
            <a:off x="8244000" y="4653000"/>
            <a:ext cx="447480" cy="149076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9"/>
          <p:cNvSpPr/>
          <p:nvPr/>
        </p:nvSpPr>
        <p:spPr>
          <a:xfrm>
            <a:off x="254160" y="106848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бренда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 и развития бренд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Рисунок 10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Picture 5" descr="5"/>
          <p:cNvPicPr/>
          <p:nvPr/>
        </p:nvPicPr>
        <p:blipFill>
          <a:blip r:embed="rId1"/>
          <a:stretch/>
        </p:blipFill>
        <p:spPr>
          <a:xfrm>
            <a:off x="0" y="1557360"/>
            <a:ext cx="3457440" cy="345744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6"/>
          <p:cNvSpPr/>
          <p:nvPr/>
        </p:nvSpPr>
        <p:spPr>
          <a:xfrm>
            <a:off x="3419640" y="1020600"/>
            <a:ext cx="54003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компании «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рассказывает о изобретении листочков для заметок с клеевым слоем. Одному из инженеров компании якобы понадобилась записка, которая бы не падала, пока он поет в хор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легенда говорит о новаторстве, которое является главной чертой, присущей компании в цел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Рисунок 7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457200" y="123048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611280" y="1125360"/>
            <a:ext cx="8064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 – это набор рациональных и эмоциональных рекламных (информационных) сообщений (коммуникаций), который описывает целостный образ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 можно условно разделить на две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6"/>
          <p:cNvSpPr/>
          <p:nvPr/>
        </p:nvSpPr>
        <p:spPr>
          <a:xfrm>
            <a:off x="1258920" y="4243320"/>
            <a:ext cx="49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минантные сообщ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путствующие сообщ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492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24000" y="963720"/>
            <a:ext cx="856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инантные сообщения несут основную информацию о бренде и используются для «закрепления» бренда в сознании потребителей. Позиционирование является основным доминантным сооб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утствующие сообщения нужны для создания целостного образа бренда в сознании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6" descr="McDonald’s"/>
          <p:cNvPicPr/>
          <p:nvPr/>
        </p:nvPicPr>
        <p:blipFill>
          <a:blip r:embed="rId1"/>
          <a:stretch/>
        </p:blipFill>
        <p:spPr>
          <a:xfrm>
            <a:off x="7256520" y="3716280"/>
            <a:ext cx="1790640" cy="208908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7"/>
          <p:cNvSpPr/>
          <p:nvPr/>
        </p:nvSpPr>
        <p:spPr>
          <a:xfrm>
            <a:off x="324000" y="358920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имера, «чистота» для сети фаст-фудов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является одной из важнейших рациональных выгод. Но не стоит на основе «чистоты» разрабатывать позиционирование или  доносить эту выгоду через СМИ; нужно сделать так, чтобы, посетив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, потребитель это увидел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Рисунок 8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7451640" y="6165720"/>
            <a:ext cx="1728720" cy="863640"/>
            <a:chOff x="7451640" y="6165720"/>
            <a:chExt cx="1728720" cy="863640"/>
          </a:xfrm>
        </p:grpSpPr>
        <p:pic>
          <p:nvPicPr>
            <p:cNvPr id="910" name="Picture 3" descr="Nike"/>
            <p:cNvPicPr/>
            <p:nvPr/>
          </p:nvPicPr>
          <p:blipFill>
            <a:blip r:embed="rId1"/>
            <a:stretch/>
          </p:blipFill>
          <p:spPr>
            <a:xfrm>
              <a:off x="752688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Rectangle 4"/>
            <p:cNvSpPr/>
            <p:nvPr/>
          </p:nvSpPr>
          <p:spPr>
            <a:xfrm>
              <a:off x="745164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8"/>
          <p:cNvSpPr/>
          <p:nvPr/>
        </p:nvSpPr>
        <p:spPr>
          <a:xfrm>
            <a:off x="419040" y="1060560"/>
            <a:ext cx="83059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. Известные спортсмены и все, кто интересуется здоровьем и физической 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ссия бренда. Производство первоклассной и модной  спортивной обуви и одежды, которая способствует улучшению качества жизни благодаря занятиям спортом. Спорт в повседневную жиз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. Спортивные туфли, обеспечивающие высокие результаты, что основано на технологическом превосход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ценности бренда. Высокотехнологичная обувь, которая помогает людям улучшать спортив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2"/>
          <p:cNvGrpSpPr/>
          <p:nvPr/>
        </p:nvGrpSpPr>
        <p:grpSpPr>
          <a:xfrm>
            <a:off x="7415280" y="6165720"/>
            <a:ext cx="1728720" cy="863640"/>
            <a:chOff x="7415280" y="6165720"/>
            <a:chExt cx="1728720" cy="863640"/>
          </a:xfrm>
        </p:grpSpPr>
        <p:pic>
          <p:nvPicPr>
            <p:cNvPr id="916" name="Picture 3" descr="Nike"/>
            <p:cNvPicPr/>
            <p:nvPr/>
          </p:nvPicPr>
          <p:blipFill>
            <a:blip r:embed="rId1"/>
            <a:stretch/>
          </p:blipFill>
          <p:spPr>
            <a:xfrm>
              <a:off x="749052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Rectangle 4"/>
            <p:cNvSpPr/>
            <p:nvPr/>
          </p:nvSpPr>
          <p:spPr>
            <a:xfrm>
              <a:off x="741528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160" y="14436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8"/>
          <p:cNvSpPr/>
          <p:nvPr/>
        </p:nvSpPr>
        <p:spPr>
          <a:xfrm>
            <a:off x="442800" y="1266840"/>
            <a:ext cx="83059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. Радостное настроение от улучшения своих спортивных результатов, ощущение энергии и здоровья, использование обуви, которая ассоциируется с известными спортсме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. Сильный, мужественный человек, который выбирает лучшее в обуви, одежде и во всем остальном. Он заботится о своем здоровье, стремится к совершенству, готов к иннов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е потребителя и бренда. Дружеское общение с сильным, мужественным человеком, «Я доверяю его выбору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2"/>
          <p:cNvGrpSpPr/>
          <p:nvPr/>
        </p:nvGrpSpPr>
        <p:grpSpPr>
          <a:xfrm>
            <a:off x="7451640" y="6165720"/>
            <a:ext cx="1728720" cy="863640"/>
            <a:chOff x="7451640" y="6165720"/>
            <a:chExt cx="1728720" cy="863640"/>
          </a:xfrm>
        </p:grpSpPr>
        <p:pic>
          <p:nvPicPr>
            <p:cNvPr id="922" name="Picture 3" descr="Nike"/>
            <p:cNvPicPr/>
            <p:nvPr/>
          </p:nvPicPr>
          <p:blipFill>
            <a:blip r:embed="rId1"/>
            <a:stretch/>
          </p:blipFill>
          <p:spPr>
            <a:xfrm>
              <a:off x="752688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Rectangle 4"/>
            <p:cNvSpPr/>
            <p:nvPr/>
          </p:nvSpPr>
          <p:spPr>
            <a:xfrm>
              <a:off x="745164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6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8920" y="71280"/>
            <a:ext cx="86108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8"/>
          <p:cNvSpPr/>
          <p:nvPr/>
        </p:nvSpPr>
        <p:spPr>
          <a:xfrm>
            <a:off x="533520" y="1281240"/>
            <a:ext cx="830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енда. Разработанные в Орегоне шипов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символ. Логотип (стилизованное изображение пера богини победы Ник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. Компания, связанная с атлетами и поддерживающая их виды спор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. Авторитетные потребители или эксперты, использование в рекламе известных спортсме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680" y="161640"/>
            <a:ext cx="79250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ес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9640" y="1341360"/>
            <a:ext cx="8136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весный товарный знак –  это слова, сочетания букв, имеющие словесный характер, словосочетания, предложения, другие единицы языка, а также их  соче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19320" y="3908520"/>
            <a:ext cx="655308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TE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Керам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sun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teka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Любимый сад»  «Три богатыр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815832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"/>
          <p:cNvGrpSpPr/>
          <p:nvPr/>
        </p:nvGrpSpPr>
        <p:grpSpPr>
          <a:xfrm>
            <a:off x="7415280" y="6165720"/>
            <a:ext cx="1728720" cy="863640"/>
            <a:chOff x="7415280" y="6165720"/>
            <a:chExt cx="1728720" cy="863640"/>
          </a:xfrm>
        </p:grpSpPr>
        <p:pic>
          <p:nvPicPr>
            <p:cNvPr id="929" name="Picture 3" descr="Nike"/>
            <p:cNvPicPr/>
            <p:nvPr/>
          </p:nvPicPr>
          <p:blipFill>
            <a:blip r:embed="rId1"/>
            <a:stretch/>
          </p:blipFill>
          <p:spPr>
            <a:xfrm>
              <a:off x="749052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Rectangle 4"/>
            <p:cNvSpPr/>
            <p:nvPr/>
          </p:nvSpPr>
          <p:spPr>
            <a:xfrm>
              <a:off x="741528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8000" y="144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4788000" y="102708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Just do it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11" descr="nike2"/>
          <p:cNvPicPr/>
          <p:nvPr/>
        </p:nvPicPr>
        <p:blipFill>
          <a:blip r:embed="rId2"/>
          <a:stretch/>
        </p:blipFill>
        <p:spPr>
          <a:xfrm>
            <a:off x="250920" y="3789360"/>
            <a:ext cx="2592360" cy="2363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2" descr="nike4"/>
          <p:cNvPicPr/>
          <p:nvPr/>
        </p:nvPicPr>
        <p:blipFill>
          <a:blip r:embed="rId3"/>
          <a:stretch/>
        </p:blipFill>
        <p:spPr>
          <a:xfrm>
            <a:off x="324000" y="1197000"/>
            <a:ext cx="2463480" cy="2127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4" descr="nike7"/>
          <p:cNvPicPr/>
          <p:nvPr/>
        </p:nvPicPr>
        <p:blipFill>
          <a:blip r:embed="rId4"/>
          <a:stretch/>
        </p:blipFill>
        <p:spPr>
          <a:xfrm>
            <a:off x="3348000" y="170028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3080" y="115560"/>
            <a:ext cx="4859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иф-Колесо»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9"/>
          <p:cNvSpPr/>
          <p:nvPr/>
        </p:nvSpPr>
        <p:spPr>
          <a:xfrm>
            <a:off x="5338800" y="20098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оциональные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0"/>
          <p:cNvGrpSpPr/>
          <p:nvPr/>
        </p:nvGrpSpPr>
        <p:grpSpPr>
          <a:xfrm>
            <a:off x="179280" y="1052640"/>
            <a:ext cx="8569440" cy="4032000"/>
            <a:chOff x="179280" y="1052640"/>
            <a:chExt cx="8569440" cy="4032000"/>
          </a:xfrm>
        </p:grpSpPr>
        <p:sp>
          <p:nvSpPr>
            <p:cNvPr id="942" name="Oval 5"/>
            <p:cNvSpPr/>
            <p:nvPr/>
          </p:nvSpPr>
          <p:spPr>
            <a:xfrm>
              <a:off x="179280" y="1052640"/>
              <a:ext cx="4321440" cy="40320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6"/>
            <p:cNvSpPr/>
            <p:nvPr/>
          </p:nvSpPr>
          <p:spPr>
            <a:xfrm>
              <a:off x="5364000" y="2322360"/>
              <a:ext cx="33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циональные выг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7"/>
            <p:cNvSpPr/>
            <p:nvPr/>
          </p:nvSpPr>
          <p:spPr>
            <a:xfrm>
              <a:off x="5312160" y="261936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исс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8"/>
            <p:cNvSpPr/>
            <p:nvPr/>
          </p:nvSpPr>
          <p:spPr>
            <a:xfrm>
              <a:off x="5356800" y="28908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вар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9"/>
            <p:cNvSpPr/>
            <p:nvPr/>
          </p:nvSpPr>
          <p:spPr>
            <a:xfrm>
              <a:off x="708120" y="1618920"/>
              <a:ext cx="3200400" cy="2895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0"/>
            <p:cNvSpPr/>
            <p:nvPr/>
          </p:nvSpPr>
          <p:spPr>
            <a:xfrm>
              <a:off x="1116000" y="2027160"/>
              <a:ext cx="2303640" cy="21585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1"/>
            <p:cNvSpPr/>
            <p:nvPr/>
          </p:nvSpPr>
          <p:spPr>
            <a:xfrm>
              <a:off x="1469880" y="2381040"/>
              <a:ext cx="1600200" cy="14475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2"/>
            <p:cNvSpPr/>
            <p:nvPr/>
          </p:nvSpPr>
          <p:spPr>
            <a:xfrm>
              <a:off x="1763640" y="2639880"/>
              <a:ext cx="990720" cy="914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3"/>
            <p:cNvSpPr/>
            <p:nvPr/>
          </p:nvSpPr>
          <p:spPr>
            <a:xfrm>
              <a:off x="5338800" y="17460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зицион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4"/>
            <p:cNvSpPr/>
            <p:nvPr/>
          </p:nvSpPr>
          <p:spPr>
            <a:xfrm flipH="1">
              <a:off x="2195280" y="281916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5"/>
            <p:cNvSpPr/>
            <p:nvPr/>
          </p:nvSpPr>
          <p:spPr>
            <a:xfrm flipH="1">
              <a:off x="2195280" y="2530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6"/>
            <p:cNvSpPr/>
            <p:nvPr/>
          </p:nvSpPr>
          <p:spPr>
            <a:xfrm flipH="1">
              <a:off x="2195280" y="2233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7"/>
            <p:cNvSpPr/>
            <p:nvPr/>
          </p:nvSpPr>
          <p:spPr>
            <a:xfrm flipH="1">
              <a:off x="2195280" y="137772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8"/>
            <p:cNvSpPr/>
            <p:nvPr/>
          </p:nvSpPr>
          <p:spPr>
            <a:xfrm flipH="1">
              <a:off x="2195280" y="19256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0"/>
            <p:cNvSpPr/>
            <p:nvPr/>
          </p:nvSpPr>
          <p:spPr>
            <a:xfrm>
              <a:off x="2076480" y="2928960"/>
              <a:ext cx="360360" cy="360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1"/>
            <p:cNvSpPr/>
            <p:nvPr/>
          </p:nvSpPr>
          <p:spPr>
            <a:xfrm flipH="1">
              <a:off x="2195280" y="3106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2"/>
            <p:cNvSpPr/>
            <p:nvPr/>
          </p:nvSpPr>
          <p:spPr>
            <a:xfrm>
              <a:off x="5364000" y="1161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ура брен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23"/>
          <p:cNvSpPr/>
          <p:nvPr/>
        </p:nvSpPr>
        <p:spPr>
          <a:xfrm>
            <a:off x="4896000" y="3645000"/>
            <a:ext cx="40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ура брен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4"/>
          <p:cNvSpPr/>
          <p:nvPr/>
        </p:nvSpPr>
        <p:spPr>
          <a:xfrm>
            <a:off x="250920" y="51577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очки зрения технического задания добавляются: целевая аудитория, портрет типичного потребителя, портрет бренда как личности, взаимоотношения типичного потребителя и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3132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идж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пред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5"/>
          <p:cNvSpPr/>
          <p:nvPr/>
        </p:nvSpPr>
        <p:spPr>
          <a:xfrm>
            <a:off x="457200" y="1949400"/>
            <a:ext cx="8305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идж бренда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 бренда, который сложилс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знании потребителей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ьном случа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раз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ен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вы разработал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мидж брен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сложился в сознании потребителей,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Line 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идж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179280" y="1123920"/>
            <a:ext cx="3961080" cy="936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Times New Roman"/>
              </a:rPr>
              <a:t>Образ брен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5364000" y="1125360"/>
            <a:ext cx="3529080" cy="1008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Times New Roman"/>
              </a:rPr>
              <a:t>Имидж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179280" y="2087640"/>
            <a:ext cx="3600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Автомобиль для водителя. Позиционирование по атрибуту «управляемость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8" descr="2"/>
          <p:cNvPicPr/>
          <p:nvPr/>
        </p:nvPicPr>
        <p:blipFill>
          <a:blip r:embed="rId1"/>
          <a:stretch/>
        </p:blipFill>
        <p:spPr>
          <a:xfrm>
            <a:off x="179280" y="3537000"/>
            <a:ext cx="3384720" cy="24876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9" descr="1"/>
          <p:cNvPicPr/>
          <p:nvPr/>
        </p:nvPicPr>
        <p:blipFill>
          <a:blip r:embed="rId2"/>
          <a:stretch/>
        </p:blipFill>
        <p:spPr>
          <a:xfrm>
            <a:off x="3780000" y="19890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977" name="Rectangle 10"/>
          <p:cNvSpPr/>
          <p:nvPr/>
        </p:nvSpPr>
        <p:spPr>
          <a:xfrm>
            <a:off x="5508720" y="2060640"/>
            <a:ext cx="345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Автомобиль для банди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зиционирование по атрибуту «крутизна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11" descr="Бумер"/>
          <p:cNvPicPr/>
          <p:nvPr/>
        </p:nvPicPr>
        <p:blipFill>
          <a:blip r:embed="rId3"/>
          <a:stretch/>
        </p:blipFill>
        <p:spPr>
          <a:xfrm>
            <a:off x="5508720" y="353700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Рисунок 6" descr=""/>
          <p:cNvPicPr/>
          <p:nvPr/>
        </p:nvPicPr>
        <p:blipFill>
          <a:blip r:embed="rId4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зменение образа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5"/>
          <p:cNvSpPr/>
          <p:nvPr/>
        </p:nvSpPr>
        <p:spPr>
          <a:xfrm>
            <a:off x="457200" y="10414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енное изменение образа бренда может привести к разрушительным для бренда последствиям. Однако существуют ситуации, в которых необходимо проводить коррекцию образа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ричины коррекции образа брен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533520" y="3076560"/>
            <a:ext cx="830556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плохо или недостаточно целостно проду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не отвечает изменениям рынка, изменениям вкусов потребителей, появлениям новых конкурентов и техноло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обращен к ограниченному ры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«наскучил» потребителям или стал старом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1143000"/>
            <a:ext cx="8136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й товарный знак  – это изображения живых существ, предметов, природных и иных объектов, а также фигуры  любых форм, композиции линий, пятен фигур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720" y="17280"/>
            <a:ext cx="76676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зитель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009960" y="3733920"/>
            <a:ext cx="135108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167652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icture 8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15796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9" descr=""/>
          <p:cNvPicPr/>
          <p:nvPr/>
        </p:nvPicPr>
        <p:blipFill>
          <a:blip r:embed="rId4"/>
          <a:stretch/>
        </p:blipFill>
        <p:spPr>
          <a:xfrm>
            <a:off x="7010280" y="3581280"/>
            <a:ext cx="133380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5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371600" y="990720"/>
            <a:ext cx="60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диостанция «Европа плю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7280"/>
            <a:ext cx="79250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ово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447920" y="1916280"/>
            <a:ext cx="60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жигалка 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p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219320" y="2827440"/>
            <a:ext cx="6705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онная система 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Кока-кола"/>
          <p:cNvPicPr/>
          <p:nvPr/>
        </p:nvPicPr>
        <p:blipFill>
          <a:blip r:embed="rId1"/>
          <a:stretch/>
        </p:blipFill>
        <p:spPr>
          <a:xfrm>
            <a:off x="2133720" y="1981080"/>
            <a:ext cx="1747800" cy="4038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28600" y="1069920"/>
            <a:ext cx="8458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ный товарный знак – это трехмерные объекты, фигуры, линии а также их комбин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-57240"/>
            <a:ext cx="7924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м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but"/>
          <p:cNvPicPr/>
          <p:nvPr/>
        </p:nvPicPr>
        <p:blipFill>
          <a:blip r:embed="rId2"/>
          <a:stretch/>
        </p:blipFill>
        <p:spPr>
          <a:xfrm>
            <a:off x="5075280" y="1905120"/>
            <a:ext cx="1441440" cy="41907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3"/>
          <a:stretch/>
        </p:blipFill>
        <p:spPr>
          <a:xfrm>
            <a:off x="8101080" y="6324480"/>
            <a:ext cx="10429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90720" y="1052640"/>
            <a:ext cx="708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ированный товарный знак – это комбинация элементов разного характера изобразительных, словесных, объемных и звук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-57240"/>
            <a:ext cx="792504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бинирован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1524240" cy="1203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1908000" y="4869000"/>
            <a:ext cx="2343240" cy="120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1506240" cy="1652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4"/>
          <a:stretch/>
        </p:blipFill>
        <p:spPr>
          <a:xfrm>
            <a:off x="5724360" y="3068640"/>
            <a:ext cx="1951200" cy="1403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5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463760"/>
            <a:ext cx="8381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ое наименование – это название предприятия, которое индивидуализирует организацию, носит бессрочный характер и регистрируется в государственном органе по регистрации юридических лиц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этим органом является налоговая инспекция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ое наиме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perestroika"/>
          <p:cNvPicPr/>
          <p:nvPr/>
        </p:nvPicPr>
        <p:blipFill>
          <a:blip r:embed="rId1"/>
          <a:stretch/>
        </p:blipFill>
        <p:spPr>
          <a:xfrm>
            <a:off x="1676520" y="3124080"/>
            <a:ext cx="5715000" cy="2506680"/>
          </a:xfrm>
          <a:prstGeom prst="rect">
            <a:avLst/>
          </a:prstGeom>
          <a:ln w="0">
            <a:noFill/>
          </a:ln>
        </p:spPr>
      </p:pic>
      <p:sp>
        <p:nvSpPr>
          <p:cNvPr id="179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57200" y="9144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готип – словесно-изобразительный знак, то есть логотип – это словесный товарный знак, написанный каким-либо характерным, специально  подобранным или специально разработанным шриф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476360" y="4648320"/>
            <a:ext cx="4876560" cy="1295280"/>
            <a:chOff x="1476360" y="4648320"/>
            <a:chExt cx="4876560" cy="1295280"/>
          </a:xfrm>
        </p:grpSpPr>
        <p:pic>
          <p:nvPicPr>
            <p:cNvPr id="182" name="Picture 6" descr="Fotolend"/>
            <p:cNvPicPr/>
            <p:nvPr/>
          </p:nvPicPr>
          <p:blipFill>
            <a:blip r:embed="rId2"/>
            <a:stretch/>
          </p:blipFill>
          <p:spPr>
            <a:xfrm>
              <a:off x="1628640" y="4870440"/>
              <a:ext cx="472428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7"/>
            <p:cNvSpPr/>
            <p:nvPr/>
          </p:nvSpPr>
          <p:spPr>
            <a:xfrm>
              <a:off x="1476360" y="4648320"/>
              <a:ext cx="12952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г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0" descr=""/>
          <p:cNvPicPr/>
          <p:nvPr/>
        </p:nvPicPr>
        <p:blipFill>
          <a:blip r:embed="rId3"/>
          <a:stretch/>
        </p:blipFill>
        <p:spPr>
          <a:xfrm>
            <a:off x="8170920" y="6372360"/>
            <a:ext cx="9730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260280"/>
            <a:ext cx="87138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План лекц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Историческое развитие взглядов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на роль рекла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Определение основных терминов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 сфере брендинг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Комплексный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8016840" y="6200640"/>
            <a:ext cx="112716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" y="942840"/>
            <a:ext cx="8153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мблема – изобразительный товарный знак, не содержащ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мблемы представляют собой рисунки разнообразных тем: символы, орнаменты, изображения животных и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1371600" cy="1308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0" descr="Fotolend"/>
          <p:cNvPicPr/>
          <p:nvPr/>
        </p:nvPicPr>
        <p:blipFill>
          <a:blip r:embed="rId2"/>
          <a:stretch/>
        </p:blipFill>
        <p:spPr>
          <a:xfrm>
            <a:off x="2882880" y="4211640"/>
            <a:ext cx="3921120" cy="801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1" descr=""/>
          <p:cNvPicPr/>
          <p:nvPr/>
        </p:nvPicPr>
        <p:blipFill>
          <a:blip r:embed="rId3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57200" y="12096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рменный блок – комбинация логотипа и эм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otolend"/>
          <p:cNvPicPr/>
          <p:nvPr/>
        </p:nvPicPr>
        <p:blipFill>
          <a:blip r:embed="rId1"/>
          <a:stretch/>
        </p:blipFill>
        <p:spPr>
          <a:xfrm>
            <a:off x="1371600" y="2276640"/>
            <a:ext cx="5943600" cy="1214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б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68360" y="429264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осторечии фирменный блок тоже называют логотипом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росторечии много чего называют логотип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56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товарного зна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50920" y="2798640"/>
            <a:ext cx="8713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ладателем исключительного права на товарный знак (правообладателем) может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14400" y="3751200"/>
            <a:ext cx="73915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ридическое лиц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ще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ринимательскую деятельность физическое лицо (частный предпринимате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5680" y="515772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ключительное право на товарный знак означает, что только владелец товарного знака вправе использовать его сам и разрешать или запрещать использовать знак другим лиц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0808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страцией товарных знаков в России занимается Федеральный орган исполнительной власти по интеллектуальной собственности Федеральная служба по интеллектуальной собственности, патентам и товарным знакам (ФСИ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250920" y="1044720"/>
            <a:ext cx="871380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 плюс все то, что знают и думают о нем, все чего ожидают от него  потребите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з, вызываемый товарным знаком в сознании покупа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 плюс набор «обещаний» и образов, возникающих в сознании потребителей и формирующих у них убеждение, что данная торговая марка «лучше», чем аналогичные торговые марки, предлагаемые  конкурент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лекс ассоциаций, связанный в сознании с определенным товарным знаком и влияющий на выбор потреб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вары создаются на фабриках, товарные знак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изайн-студиях, а торговые марки – в сознании потреб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2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пперцеп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85800" y="1238400"/>
            <a:ext cx="79246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ерцепц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ологическая реакция непроизвольного припоминан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ь сталкивается с товарным знаком и именно он запускает процесс «активизации» представлений потребителя об этом товаре, заложенным всем его предшествующим опы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пперцепция – это то, что на самом деле связывает торговую марку (совокупность представлений) и товарны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8172360" y="6375240"/>
            <a:ext cx="97488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пперцеп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457200" y="1828800"/>
            <a:ext cx="8153280" cy="3809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143000" y="990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RC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219320" y="56386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 (бренд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RC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7391520" y="4647960"/>
            <a:ext cx="0" cy="1066680"/>
          </a:xfrm>
          <a:prstGeom prst="line">
            <a:avLst/>
          </a:prstGeom>
          <a:ln w="28440">
            <a:solidFill>
              <a:srgbClr val="6a6e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892160" y="2209680"/>
            <a:ext cx="64008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бывают шестисот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ая машина для полицей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акая крутая тачка, на которой ездят новые рус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ними часто сталкиваются «горбатые запорожц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почти не ломается, но дорог в обслужи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а комфортабельная, но тяжелая и «угрюм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у назвали именем дочери хозяина за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mercedes"/>
          <p:cNvPicPr/>
          <p:nvPr/>
        </p:nvPicPr>
        <p:blipFill>
          <a:blip r:embed="rId1"/>
          <a:stretch/>
        </p:blipFill>
        <p:spPr>
          <a:xfrm>
            <a:off x="1295280" y="3276720"/>
            <a:ext cx="390600" cy="398520"/>
          </a:xfrm>
          <a:prstGeom prst="rect">
            <a:avLst/>
          </a:prstGeom>
          <a:ln w="0">
            <a:noFill/>
          </a:ln>
        </p:spPr>
      </p:pic>
      <p:sp>
        <p:nvSpPr>
          <p:cNvPr id="233" name="Line 11"/>
          <p:cNvSpPr/>
          <p:nvPr/>
        </p:nvSpPr>
        <p:spPr>
          <a:xfrm>
            <a:off x="1523880" y="1600200"/>
            <a:ext cx="0" cy="1523880"/>
          </a:xfrm>
          <a:prstGeom prst="line">
            <a:avLst/>
          </a:prstGeom>
          <a:ln w="28440">
            <a:solidFill>
              <a:srgbClr val="6a6e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" descr=""/>
          <p:cNvPicPr/>
          <p:nvPr/>
        </p:nvPicPr>
        <p:blipFill>
          <a:blip r:embed="rId2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64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функции торговой мар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14400" y="1300320"/>
            <a:ext cx="73915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я компаний и их товаров среди других компаний и товаров конкур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понимания потребителем товара ил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дуры выбора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бизн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я расширения бизнеса на другие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8166240" y="6375240"/>
            <a:ext cx="97632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343400" cy="15066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3352680"/>
            <a:ext cx="769644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ценкам «Financial World», в 1994 году торговая марка «Coca-Cola» являлась самой ценной в мире и стоила примерно 36 млрд. доллар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н.в.стоимость этой торговой марки превысила 78 млрд. долл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2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640" y="30312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84360" y="4132440"/>
            <a:ext cx="7696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лег Тиньков продал свою пивоваренную компанию «Тинькофф» компании InBev S.A. за 201 млн. долларов, оставив за собой сеть из 10 одноименных рестора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Тинькофф1"/>
          <p:cNvPicPr/>
          <p:nvPr/>
        </p:nvPicPr>
        <p:blipFill>
          <a:blip r:embed="rId1"/>
          <a:stretch/>
        </p:blipFill>
        <p:spPr>
          <a:xfrm>
            <a:off x="1116000" y="1197000"/>
            <a:ext cx="2786040" cy="280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Тиньков1"/>
          <p:cNvPicPr/>
          <p:nvPr/>
        </p:nvPicPr>
        <p:blipFill>
          <a:blip r:embed="rId2"/>
          <a:stretch/>
        </p:blipFill>
        <p:spPr>
          <a:xfrm>
            <a:off x="4643280" y="14796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3"/>
          <a:stretch/>
        </p:blipFill>
        <p:spPr>
          <a:xfrm>
            <a:off x="817236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72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 и бре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5280" y="1828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Н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ЬНАЯ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14480" y="1166760"/>
            <a:ext cx="892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м разница между терминами «торговая марка» и «бренд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0880" y="2743200"/>
            <a:ext cx="85122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 «сильной» торговой мар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ка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названия (зарегистрированного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графического реш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аточно широкая «география» дистрибу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ние значительной долей ры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я осведомлен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«весомой» группы лояльных потреб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8166240" y="6369120"/>
            <a:ext cx="97452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923920"/>
            <a:ext cx="7993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1. Историческое развитие взглядов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а роль рекла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8101080" y="6411960"/>
            <a:ext cx="85068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ренд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«мысленный ярлык», который «наклеивают» на товар потребители, и тот смысл, который вкладывают в него сами создатели бренд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 и бре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8169120" y="6351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720" y="0"/>
            <a:ext cx="87627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лассификация торговых ма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84360" y="1484280"/>
            <a:ext cx="83516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tional brand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epsi, Volvo, Smirn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федеральная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алтика, Беседа, Флаг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onal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областная ТМ Аксинья Ростовска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л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ТМ, еще не набравшая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80880" y="1766880"/>
            <a:ext cx="84582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N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D-MANAGE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RAND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ка и искусство создания и продвижения торговой марки с целью формирования долгосрочного предпочтения к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8172360" y="635472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ренд-менеджмент – эт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иле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иционирование и репозиционирова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новление и изменение стадии развития бренда (ребрендинг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ширение и углубление брен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-менедж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8169120" y="6270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21924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е культуры бренд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80880" y="1341360"/>
            <a:ext cx="838224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Европейская (западна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цепция дифференциации това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придания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отличительных особенностей с целью завоевания преимущества перед конкурент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ярким примером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э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культуры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являетс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омпания 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тер энд Гэмб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», котора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ет набор бр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ов в каждой категории продуктов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йд, Блендамед, Фэри,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вэйз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Азиатская (восточна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цепция инвести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вания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б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 в первую очередь на уровне корпорации и лишь во вторую очередь, в гораздо меньшей степени, на уровне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товаров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, в Японии, торговая марка товара без гарантии корпоративной марки фирмы вообще не стала бы покупаться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классический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50920" y="12636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рендин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и искусство создания и продвижения торговой марки с целью формирования долгосрочного предпочтения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24000" y="300672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кетин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роцес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направленный на удовлетворение потребностей и желаний людей и организаций путем обеспечения свободного конкурентного обмена товарами и услугами, представляющими ценность для покупател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ендинг следует рассматривать в качестве управленческой технологии, включающей элементы как маркетинга, так и менеджмен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классический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1373040"/>
          <a:ext cx="8458200" cy="4648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327636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т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енд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рын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вижение товара к потребит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с потреб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ночная доля, объем прод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яльность потребителей брен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и в одной товарной катег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постави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ника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эффективност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продаж товара, рост доли покуп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количества лояльных потреб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коммуник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вижение товара к потребит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репление отношений потребителя с брен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459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08000" y="14796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причина создания бренда – его способность увеличивать разницу между себестоимостью и продажной ценой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39680" y="321300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и предпочитают наиболее гармоничный и понятный бренд, несмотря на то, что качество товара у конкурента с менее понятным брендом может быть вы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72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2471760" y="1265400"/>
            <a:ext cx="419112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700360" y="1341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ие продаж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95240" y="2332080"/>
            <a:ext cx="3200400" cy="1676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71560" y="2332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бренд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871560" y="294156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жи обусловленные удобством приобретения, ценой, ка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4376880" y="233208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452840" y="2332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енд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4452840" y="294156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жи генерируемые брен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2776680" y="1951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>
            <a:off x="6357960" y="1951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871560" y="477036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47880" y="477036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про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947880" y="522756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генерируемые текущей рекла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4376880" y="477036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4452840" y="4770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ствен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е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4452840" y="5151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на основе внутренней мотивации потребителей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я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бре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3386160" y="42372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2"/>
          <p:cNvSpPr/>
          <p:nvPr/>
        </p:nvSpPr>
        <p:spPr>
          <a:xfrm flipV="1">
            <a:off x="6053040" y="4008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3"/>
          <p:cNvSpPr/>
          <p:nvPr/>
        </p:nvSpPr>
        <p:spPr>
          <a:xfrm>
            <a:off x="3386160" y="421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4"/>
          <p:cNvSpPr/>
          <p:nvPr/>
        </p:nvSpPr>
        <p:spPr>
          <a:xfrm>
            <a:off x="7043760" y="421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616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0-е – 40-е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031760"/>
            <a:ext cx="403848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осредственно стимулировать продажи, во многих случаях – продавать на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должна привлекать максимальное количество непосредственных откликов потребителей (купоны, запросы и так дал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opkins"/>
          <p:cNvPicPr/>
          <p:nvPr/>
        </p:nvPicPr>
        <p:blipFill>
          <a:blip r:embed="rId1"/>
          <a:stretch/>
        </p:blipFill>
        <p:spPr>
          <a:xfrm>
            <a:off x="7253280" y="1600200"/>
            <a:ext cx="15526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schlitz"/>
          <p:cNvPicPr/>
          <p:nvPr/>
        </p:nvPicPr>
        <p:blipFill>
          <a:blip r:embed="rId2"/>
          <a:stretch/>
        </p:blipFill>
        <p:spPr>
          <a:xfrm>
            <a:off x="4572000" y="1600200"/>
            <a:ext cx="25113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7238880" y="3911760"/>
            <a:ext cx="160020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Клод Хопкинс – самый известный рекламист 1920-х – 30-х годов, автор книги «Научная Реклама» (1928). Апологет строго аргументированного, убеждающего текс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3"/>
          <a:stretch/>
        </p:blipFill>
        <p:spPr>
          <a:xfrm>
            <a:off x="8139240" y="6346800"/>
            <a:ext cx="100476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59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– борьба за увеличение лояльных потребите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04920" y="1365120"/>
            <a:ext cx="85341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треблении любого товара действует правило Парето: 20% пользователей потребляет 80% всего объе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ода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доли постоянных покупателей на 5% увеличивает общий объем продаж более чем на 2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й опыт свидетельствует: чтобы продать единицу товара, продавцу требуется не менее 10 обращений к новым потенциальным покупателям, и лишь 2-3 обращения к уже существу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статистический потребитель, разочарованный в торговой марке, расскажет об этом еще 10 потенциальным потребителям этой торговой м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8172360" y="6381720"/>
            <a:ext cx="9748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85800" y="1341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уальность – внешний вид товара и его свойства, им бренда, рекламу, упаковку, фирменный знак, логотип, персонажей бренда, собственные коммуникации и т.д.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актеристики бренда – характеристики, приписываемые бренду потребителем, должны быть уникальными, непохожими на характеристики брендов-конкурен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-36360" y="71280"/>
            <a:ext cx="6408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призна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8169120" y="6343560"/>
            <a:ext cx="97488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9410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я совокупность характеристик идентичности бренда подразделяю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28560" y="2157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ещ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те свойства товара, которые позволят покупателю получить определенную пользу и выгоду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жид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.е. каким хотел бы видеть бренд потребитель и какую пользу он ожидает от него получит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дтвержд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вызывающие положительные эмоции в процессе взаимодействия потребителя и брен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рактеристи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2" descr=""/>
          <p:cNvPicPr/>
          <p:nvPr/>
        </p:nvPicPr>
        <p:blipFill>
          <a:blip r:embed="rId1"/>
          <a:stretch/>
        </p:blipFill>
        <p:spPr>
          <a:xfrm>
            <a:off x="8101080" y="6337440"/>
            <a:ext cx="9745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рким примером подобной идентичности является реклама водки «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», которая обладает только ей присущими качествами, которую невозможно спутать ни с одним другим рекламируемым това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обные характеристики рекламы способствуют формированию идентичности и са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рактеристи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8101080" y="625968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3. Маркетинговые креативные коммуникационные констан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79280" y="1700280"/>
            <a:ext cx="8640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 (МККК) - элемент системы фирменных идентифицирующих маркетинговых коммуникаций, отличающихся от элементов фирменного стиля значительно меньшей формализованностью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1" descr=""/>
          <p:cNvPicPr/>
          <p:nvPr/>
        </p:nvPicPr>
        <p:blipFill>
          <a:blip r:embed="rId1"/>
          <a:stretch/>
        </p:blipFill>
        <p:spPr>
          <a:xfrm>
            <a:off x="8028000" y="625644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рменный стиль является внешним отражением имиджа фирмы. Его главная задача – визуализация и идентификация брен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слога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бразы корпоративных герое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стоянные коммуникан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фирменный гим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корпоративная легенда (фирменная байка) и д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нструменты МК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1" descr=""/>
          <p:cNvPicPr/>
          <p:nvPr/>
        </p:nvPicPr>
        <p:blipFill>
          <a:blip r:embed="rId1"/>
          <a:stretch/>
        </p:blipFill>
        <p:spPr>
          <a:xfrm>
            <a:off x="7970760" y="6272280"/>
            <a:ext cx="97488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рменный слоган представляет собой постоянно используемый фирменный оригинальный девиз. Некоторые слоганы регистрируются как товарные знак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сло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" descr=""/>
          <p:cNvPicPr/>
          <p:nvPr/>
        </p:nvPicPr>
        <p:blipFill>
          <a:blip r:embed="rId1"/>
          <a:stretch/>
        </p:blipFill>
        <p:spPr>
          <a:xfrm>
            <a:off x="7970760" y="633564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4360" y="1773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одной стороны – важная часть формируемого имиджа фирмы, с другой – инструмент МКК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тор как бы персонифицирует сам себя, разрабатывая постоянный, устойчивый образ представителя, посредника (коммуниканта) в коммуникациях с целевой аудитори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6"/>
          <p:cNvSpPr/>
          <p:nvPr/>
        </p:nvSpPr>
        <p:spPr>
          <a:xfrm>
            <a:off x="1187280" y="1197000"/>
            <a:ext cx="547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1" descr=""/>
          <p:cNvPicPr/>
          <p:nvPr/>
        </p:nvPicPr>
        <p:blipFill>
          <a:blip r:embed="rId1"/>
          <a:stretch/>
        </p:blipFill>
        <p:spPr>
          <a:xfrm>
            <a:off x="8166240" y="631188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1295280"/>
            <a:ext cx="403848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 и донести до потребителя УТП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никальное Торговое Предложение»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утверждает потребителя в мысли, что товар имеет важную уникальную особ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972480" y="1371600"/>
            <a:ext cx="182880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Россер Ривз – автор книги «Реальность в рекламе» (1956). Разработал концепцию «Уникального торгового предложения». Самая известная работа:  президентская кампания Эйзенхауэ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reeves1"/>
          <p:cNvPicPr/>
          <p:nvPr/>
        </p:nvPicPr>
        <p:blipFill>
          <a:blip r:embed="rId1"/>
          <a:stretch/>
        </p:blipFill>
        <p:spPr>
          <a:xfrm>
            <a:off x="4648320" y="1371600"/>
            <a:ext cx="2133360" cy="16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7" descr="ikepromo"/>
          <p:cNvPicPr/>
          <p:nvPr/>
        </p:nvPicPr>
        <p:blipFill>
          <a:blip r:embed="rId2"/>
          <a:stretch/>
        </p:blipFill>
        <p:spPr>
          <a:xfrm>
            <a:off x="4648320" y="3048120"/>
            <a:ext cx="4190760" cy="30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0-е –60-е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3"/>
          <a:stretch/>
        </p:blipFill>
        <p:spPr>
          <a:xfrm>
            <a:off x="8172360" y="6337440"/>
            <a:ext cx="971640" cy="5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о КГ наделяется некоторыми чертами, которые коммуникатор стремится включить а свой имидж.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ак, огромный рыжий клоун Рональд Макдональд должен олицетворять в глазах маленьких посетителей сети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имидж этих ресторанов, включающий по воле его создателей элементы веселого праздника с подарками, представлениями и т.п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тал самым узнаваемым вымышленным персонажем, уступающим только Санта-Клаус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огда коммуникаторы используют известность того или иного персонажа в качестве корпоративных героев персонажей мультфильм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Тако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договор был заключен компанией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errero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производителем шоколадных лакомств-игрушек «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inder Surprise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», с создателями фильма «Ледниковый период-4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Рисунок 1" descr=""/>
          <p:cNvPicPr/>
          <p:nvPr/>
        </p:nvPicPr>
        <p:blipFill>
          <a:blip r:embed="rId1"/>
          <a:stretch/>
        </p:blipFill>
        <p:spPr>
          <a:xfrm>
            <a:off x="8028000" y="6283440"/>
            <a:ext cx="9763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личие от КГ является реальным лицом. Это конкретный человек, который избран фирмой в качестве посредника в ее коммуникациях с адресатом («лицо компании», «бренд-имидж», «икона фирмы»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1548720" y="1268280"/>
            <a:ext cx="392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" descr=""/>
          <p:cNvPicPr/>
          <p:nvPr/>
        </p:nvPicPr>
        <p:blipFill>
          <a:blip r:embed="rId1"/>
          <a:stretch/>
        </p:blipFill>
        <p:spPr>
          <a:xfrm>
            <a:off x="8143920" y="626760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иво «Балтика» имеет в качестве постоянного коммуниканта режиссера и актера Федора Бондарчука. Очевидно, что целью этого сотрудничества было придание имиджу пива таких черт, как успешность, благосостояние, харизматичность и д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Рисунок 1" descr=""/>
          <p:cNvPicPr/>
          <p:nvPr/>
        </p:nvPicPr>
        <p:blipFill>
          <a:blip r:embed="rId1"/>
          <a:stretch/>
        </p:blipFill>
        <p:spPr>
          <a:xfrm>
            <a:off x="8028000" y="6253200"/>
            <a:ext cx="9763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547640" y="2421000"/>
            <a:ext cx="597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4. Роль рекламы в формировании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8101080" y="6362640"/>
            <a:ext cx="9745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920880" y="1620360"/>
            <a:ext cx="81360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Информирование аудитор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4360" y="227628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енно реклама благодаря широкому охвату (особенно ТВ-реклама) и возможности многократного повторения в течение короткого промежутка времени позволяет успешно решить проблемы информ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826920" y="981000"/>
            <a:ext cx="626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чи брендинг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8"/>
          <p:cNvSpPr/>
          <p:nvPr/>
        </p:nvSpPr>
        <p:spPr>
          <a:xfrm>
            <a:off x="987480" y="4710240"/>
            <a:ext cx="47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) Запоминание реклам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1" descr=""/>
          <p:cNvPicPr/>
          <p:nvPr/>
        </p:nvPicPr>
        <p:blipFill>
          <a:blip r:embed="rId1"/>
          <a:stretch/>
        </p:blipFill>
        <p:spPr>
          <a:xfrm>
            <a:off x="8116920" y="634680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1476360" y="120600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 Формирование осведомленност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20840" y="2276280"/>
            <a:ext cx="871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едрение в сознание покупателя имени бренд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оставление предварительной информации о позиции брен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бренд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1" descr=""/>
          <p:cNvPicPr/>
          <p:nvPr/>
        </p:nvPicPr>
        <p:blipFill>
          <a:blip r:embed="rId1"/>
          <a:stretch/>
        </p:blipFill>
        <p:spPr>
          <a:xfrm>
            <a:off x="8156520" y="6362640"/>
            <a:ext cx="97632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8560" y="2481120"/>
            <a:ext cx="788688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ъективность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авдивость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324000" y="115920"/>
            <a:ext cx="7921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5"/>
          <p:cNvSpPr/>
          <p:nvPr/>
        </p:nvSpPr>
        <p:spPr>
          <a:xfrm>
            <a:off x="539640" y="119700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ые требования к рекламе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1" descr=""/>
          <p:cNvPicPr/>
          <p:nvPr/>
        </p:nvPicPr>
        <p:blipFill>
          <a:blip r:embed="rId1"/>
          <a:stretch/>
        </p:blipFill>
        <p:spPr>
          <a:xfrm>
            <a:off x="8169120" y="6399360"/>
            <a:ext cx="9748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6836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ществует несколько моделей иерархии коммуникационных целей в рамках бренд-менеджмент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456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8101080" y="633744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1227240"/>
            <a:ext cx="8043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ь «коммуникационной пирамид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2842920"/>
            <a:ext cx="77724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мериканские профессора Кортленд Бове и Уильям Аренс представили иерархическую систему целей маркетинговых коммуникаций в виде пирами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Рисунок 2" descr=""/>
          <p:cNvPicPr/>
          <p:nvPr/>
        </p:nvPicPr>
        <p:blipFill>
          <a:blip r:embed="rId1"/>
          <a:stretch/>
        </p:blipFill>
        <p:spPr>
          <a:xfrm>
            <a:off x="8028000" y="6377040"/>
            <a:ext cx="97632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1125360"/>
            <a:ext cx="419076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ь и донести до потребителя уникальный образ марки, УЭП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никальное Эмоциональное Предложение»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создает у потребителя ощущение эмоциональной связи с брендом, понимание его «характе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rnbach"/>
          <p:cNvPicPr/>
          <p:nvPr/>
        </p:nvPicPr>
        <p:blipFill>
          <a:blip r:embed="rId1"/>
          <a:stretch/>
        </p:blipFill>
        <p:spPr>
          <a:xfrm>
            <a:off x="4648320" y="1365120"/>
            <a:ext cx="103500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ogilvy1"/>
          <p:cNvPicPr/>
          <p:nvPr/>
        </p:nvPicPr>
        <p:blipFill>
          <a:blip r:embed="rId2"/>
          <a:stretch/>
        </p:blipFill>
        <p:spPr>
          <a:xfrm>
            <a:off x="7669080" y="1365120"/>
            <a:ext cx="1255680" cy="130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hathaway"/>
          <p:cNvPicPr/>
          <p:nvPr/>
        </p:nvPicPr>
        <p:blipFill>
          <a:blip r:embed="rId3"/>
          <a:stretch/>
        </p:blipFill>
        <p:spPr>
          <a:xfrm>
            <a:off x="6864480" y="2743200"/>
            <a:ext cx="2127240" cy="2819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796000" y="1371600"/>
            <a:ext cx="1755720" cy="115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Билл Бернбах (слева) и Дэвид Огилви – самые яркие рекламисты конца 50-х – 60-х г. г. Стремились создавать рекламируемым брендам неповторимый имидж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741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едина 50-х годов – 70-е год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" descr="VW_01"/>
          <p:cNvPicPr/>
          <p:nvPr/>
        </p:nvPicPr>
        <p:blipFill>
          <a:blip r:embed="rId4"/>
          <a:stretch/>
        </p:blipFill>
        <p:spPr>
          <a:xfrm>
            <a:off x="4643280" y="2759040"/>
            <a:ext cx="2022480" cy="2819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5"/>
          <a:stretch/>
        </p:blipFill>
        <p:spPr>
          <a:xfrm>
            <a:off x="8174160" y="6402240"/>
            <a:ext cx="96984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17400" y="1525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Фундаментом коммуникационной пирамиды являетс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сведомленн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Следующая высокая ступень –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зн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4. Предпочт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 коммуницируемому товар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3. Жел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ладать товар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2. Убежденн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необходимости покуп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1. Побуждение к активному действи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.е. непосредственно к осуществлению покупк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1" descr=""/>
          <p:cNvPicPr/>
          <p:nvPr/>
        </p:nvPicPr>
        <p:blipFill>
          <a:blip r:embed="rId1"/>
          <a:stretch/>
        </p:blipFill>
        <p:spPr>
          <a:xfrm>
            <a:off x="8132760" y="6350040"/>
            <a:ext cx="974880" cy="4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Объект 3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4"/>
          <p:cNvSpPr/>
          <p:nvPr/>
        </p:nvSpPr>
        <p:spPr>
          <a:xfrm>
            <a:off x="179280" y="5099040"/>
            <a:ext cx="910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подобной логикой основных этапов влияния будет осуществляться и рекламная деятельность в процессе формирования и развития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468360" y="260280"/>
            <a:ext cx="662472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хема иерархии коммуникационных ц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Прямая со стрелкой 7"/>
          <p:cNvCxnSpPr/>
          <p:nvPr/>
        </p:nvCxnSpPr>
        <p:spPr>
          <a:xfrm flipV="1">
            <a:off x="4066920" y="1483560"/>
            <a:ext cx="1080" cy="302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57" name="Рисунок 1" descr=""/>
          <p:cNvPicPr/>
          <p:nvPr/>
        </p:nvPicPr>
        <p:blipFill>
          <a:blip r:embed="rId2"/>
          <a:stretch/>
        </p:blipFill>
        <p:spPr>
          <a:xfrm>
            <a:off x="8028000" y="6343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ь 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TH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Содержимое 2"/>
          <p:cNvSpPr/>
          <p:nvPr/>
        </p:nvSpPr>
        <p:spPr>
          <a:xfrm>
            <a:off x="838080" y="1700280"/>
            <a:ext cx="77724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ложена американским специалистом Скоттом Дэвисом (название сформировано из начальных букв английских слов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ведомленность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warenes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нимание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бная покупка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ria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довольствие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динственность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омендации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1" descr=""/>
          <p:cNvPicPr/>
          <p:nvPr/>
        </p:nvPicPr>
        <p:blipFill>
          <a:blip r:embed="rId1"/>
          <a:stretch/>
        </p:blipFill>
        <p:spPr>
          <a:xfrm>
            <a:off x="8123400" y="6408720"/>
            <a:ext cx="974520" cy="4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шение проблем на этой стадии приводит к достижению главной цели бренд-менеджмента – сформированной лояльности покупателя, обеспечению повторных покупо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1" descr=""/>
          <p:cNvPicPr/>
          <p:nvPr/>
        </p:nvPicPr>
        <p:blipFill>
          <a:blip r:embed="rId1"/>
          <a:stretch/>
        </p:blipFill>
        <p:spPr>
          <a:xfrm>
            <a:off x="8147160" y="63579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72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ояльный потреб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209520" y="124776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й потребитель – это потребитель, который предпочитает одну торговую марку другим аналогичным торговым марк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380880" y="2971800"/>
            <a:ext cx="8001000" cy="2868120"/>
            <a:chOff x="380880" y="2971800"/>
            <a:chExt cx="8001000" cy="2868120"/>
          </a:xfrm>
        </p:grpSpPr>
        <p:grpSp>
          <p:nvGrpSpPr>
            <p:cNvPr id="475" name="Group 7"/>
            <p:cNvGrpSpPr/>
            <p:nvPr/>
          </p:nvGrpSpPr>
          <p:grpSpPr>
            <a:xfrm>
              <a:off x="744480" y="3657600"/>
              <a:ext cx="7637400" cy="2182320"/>
              <a:chOff x="744480" y="3657600"/>
              <a:chExt cx="7637400" cy="2182320"/>
            </a:xfrm>
          </p:grpSpPr>
          <p:sp>
            <p:nvSpPr>
              <p:cNvPr id="476" name="Text Box 8"/>
              <p:cNvSpPr/>
              <p:nvPr/>
            </p:nvSpPr>
            <p:spPr>
              <a:xfrm>
                <a:off x="761760" y="3657600"/>
                <a:ext cx="5791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1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Миссионерство»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"/>
              <p:cNvSpPr/>
              <p:nvPr/>
            </p:nvSpPr>
            <p:spPr>
              <a:xfrm>
                <a:off x="761760" y="4208760"/>
                <a:ext cx="7620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2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Бороться и искать, найти и не сдаваться!»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0"/>
              <p:cNvSpPr/>
              <p:nvPr/>
            </p:nvSpPr>
            <p:spPr>
              <a:xfrm>
                <a:off x="744480" y="4759560"/>
                <a:ext cx="5638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3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Лучший среди равных»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11"/>
              <p:cNvSpPr/>
              <p:nvPr/>
            </p:nvSpPr>
            <p:spPr>
              <a:xfrm>
                <a:off x="761760" y="5349960"/>
                <a:ext cx="56390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4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Один из равных»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Rectangle 12"/>
            <p:cNvSpPr/>
            <p:nvPr/>
          </p:nvSpPr>
          <p:spPr>
            <a:xfrm>
              <a:off x="380880" y="2971800"/>
              <a:ext cx="5791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480" indent="-64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тыре уровня лояльности: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Рисунок 1" descr=""/>
          <p:cNvPicPr/>
          <p:nvPr/>
        </p:nvPicPr>
        <p:blipFill>
          <a:blip r:embed="rId1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24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вни лояльности потреб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246240" y="125424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 «Миссионерство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потребляет только  одну торговую марку и готов всем доказывать превосходств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рговой марки над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ными торговыми марка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246240" y="31860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 «Бороться и искать, найти и не сдаваться!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пойдет в другой магазин, если в первом магазине он не нашел необходимой ему торговой ма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246240" y="511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760" indent="-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иверженцы – лояльные потребители 1-го и 2-го уровне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Рисунок 1" descr=""/>
          <p:cNvPicPr/>
          <p:nvPr/>
        </p:nvPicPr>
        <p:blipFill>
          <a:blip r:embed="rId1"/>
          <a:stretch/>
        </p:blipFill>
        <p:spPr>
          <a:xfrm>
            <a:off x="8158320" y="635004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24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ровни лояльности потреб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2400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уровень лояльности. «Лучший среди равны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в магазине выберет свою торговую марку, но при ее отсутствии он возьмет другую аналогичную торговую мар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25440" y="314172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уровень лояльности. «Один из равны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требителя существует некий набор торговых марок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тор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полностью удовлетворя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в магазине он выберет одну торговую марку из этого набо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Рисунок 1" descr=""/>
          <p:cNvPicPr/>
          <p:nvPr/>
        </p:nvPicPr>
        <p:blipFill>
          <a:blip r:embed="rId1"/>
          <a:stretch/>
        </p:blipFill>
        <p:spPr>
          <a:xfrm>
            <a:off x="8169120" y="6386400"/>
            <a:ext cx="974880" cy="4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99720" y="1690560"/>
            <a:ext cx="7886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Формирование полноценного имиджа бренда с помощью имиджевой рекламы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обходимо периодически и своевременно обновлять предложения о ценностях бренда, новых качествах товара и всех остальных характеристиках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34920" y="144360"/>
            <a:ext cx="7921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5"/>
          <p:cNvSpPr/>
          <p:nvPr/>
        </p:nvSpPr>
        <p:spPr>
          <a:xfrm>
            <a:off x="327240" y="1125360"/>
            <a:ext cx="34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Рисунок 1" descr=""/>
          <p:cNvPicPr/>
          <p:nvPr/>
        </p:nvPicPr>
        <p:blipFill>
          <a:blip r:embed="rId1"/>
          <a:stretch/>
        </p:blipFill>
        <p:spPr>
          <a:xfrm>
            <a:off x="8169120" y="6453360"/>
            <a:ext cx="974880" cy="35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531720" y="1267920"/>
            <a:ext cx="7886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Осуществление технологий дифференц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ифференциация бренда из массы многочисленных брендов-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вая стадия дифференциации –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«отстройка» от конкурент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с помощью идентификации брен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1" descr=""/>
          <p:cNvPicPr/>
          <p:nvPr/>
        </p:nvPicPr>
        <p:blipFill>
          <a:blip r:embed="rId1"/>
          <a:stretch/>
        </p:blipFill>
        <p:spPr>
          <a:xfrm>
            <a:off x="8169120" y="63658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108000" y="1197000"/>
            <a:ext cx="9144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признаков идентичности                                               бренда: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209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уальность – внешний вид товара и его свойства, имя бренда, упаковка, фирменные конкстант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актеристики бренда – чувства, которые потребитель связывает с ТМ; признаки, характеризующие качество товар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247680" y="189000"/>
            <a:ext cx="7921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Рисунок 1" descr=""/>
          <p:cNvPicPr/>
          <p:nvPr/>
        </p:nvPicPr>
        <p:blipFill>
          <a:blip r:embed="rId1"/>
          <a:stretch/>
        </p:blipFill>
        <p:spPr>
          <a:xfrm>
            <a:off x="8169120" y="6373800"/>
            <a:ext cx="97488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4920" y="1125360"/>
            <a:ext cx="411480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позиционировать бренд, создать для него сообщение, отличающее его от конкурентов в выбранном сегменте рынка и максимально близкое для целевой аудитор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Хорошая реклама в нашем сверхкоммуникативном обществе помогает потребителям запомнить торговую марку и причину ее потребления вместо любой другой аналогичной конкурентной торговой мар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236000" y="1138320"/>
            <a:ext cx="1752480" cy="108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Джек Траут и Эл Райс – одни из самых известных маркетологов конца ХХ-го век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Разработали теорию позици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70-е – середина 90-х год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apple02"/>
          <p:cNvPicPr/>
          <p:nvPr/>
        </p:nvPicPr>
        <p:blipFill>
          <a:blip r:embed="rId1"/>
          <a:stretch/>
        </p:blipFill>
        <p:spPr>
          <a:xfrm>
            <a:off x="4572000" y="2852640"/>
            <a:ext cx="4392720" cy="3299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Райз"/>
          <p:cNvPicPr/>
          <p:nvPr/>
        </p:nvPicPr>
        <p:blipFill>
          <a:blip r:embed="rId2"/>
          <a:stretch/>
        </p:blipFill>
        <p:spPr>
          <a:xfrm>
            <a:off x="5940360" y="1125360"/>
            <a:ext cx="118764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Траут"/>
          <p:cNvPicPr/>
          <p:nvPr/>
        </p:nvPicPr>
        <p:blipFill>
          <a:blip r:embed="rId3"/>
          <a:stretch/>
        </p:blipFill>
        <p:spPr>
          <a:xfrm>
            <a:off x="4572000" y="1125360"/>
            <a:ext cx="12049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4"/>
          <a:stretch/>
        </p:blipFill>
        <p:spPr>
          <a:xfrm>
            <a:off x="8101080" y="6369120"/>
            <a:ext cx="104292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Ценности бренда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rand values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371600" y="164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четание уникальных свойств марочного товара:  выгоды и блага от его приобрет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268200" y="10944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1" descr=""/>
          <p:cNvPicPr/>
          <p:nvPr/>
        </p:nvPicPr>
        <p:blipFill>
          <a:blip r:embed="rId1"/>
          <a:stretch/>
        </p:blipFill>
        <p:spPr>
          <a:xfrm>
            <a:off x="7970760" y="6372360"/>
            <a:ext cx="97488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531720" y="1290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 бренд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знании потребителя -действия по разработке предложения компании и ее имиджа, направленные на то, чтобы занять обособленное благоприятное положение в сознании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Рисунок 1" descr=""/>
          <p:cNvPicPr/>
          <p:nvPr/>
        </p:nvPicPr>
        <p:blipFill>
          <a:blip r:embed="rId1"/>
          <a:stretch/>
        </p:blipFill>
        <p:spPr>
          <a:xfrm>
            <a:off x="810108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84360" y="1672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никающие в сознании потребителя в процессе коммуникации с брендом и при воспоминании о нем (намеки, подтексты, двойные смыслы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емы формирования позиц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766800" y="1268280"/>
            <a:ext cx="360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. Ассоциации брендa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1" descr=""/>
          <p:cNvPicPr/>
          <p:nvPr/>
        </p:nvPicPr>
        <p:blipFill>
          <a:blip r:embed="rId1"/>
          <a:stretch/>
        </p:blipFill>
        <p:spPr>
          <a:xfrm>
            <a:off x="8101080" y="6453360"/>
            <a:ext cx="974520" cy="37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а завися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одержание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индивидуальные качества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оциальные качеств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радиции, обычаи, нрав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рхетип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называется мифологией брен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611280" y="1574280"/>
            <a:ext cx="82072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Например, классическая музыка в рекламе ассоциируется с повышенным уровнем духовности, респектабельности, довер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«Coca-Cola» вызывает ассоциации с весельем, сказочным беззаботным миром. Новогодняя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этого напитка ассоциируется с Санта-Клаус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Рисунок 1" descr=""/>
          <p:cNvPicPr/>
          <p:nvPr/>
        </p:nvPicPr>
        <p:blipFill>
          <a:blip r:embed="rId1"/>
          <a:stretch/>
        </p:blipFill>
        <p:spPr>
          <a:xfrm>
            <a:off x="8101080" y="6405480"/>
            <a:ext cx="974520" cy="3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циации с брендами, формируемые рекламой, могут быть не только позитивны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бренда «Domestos» — одной из лидирующих марок среди чистящих средств на российском рынке — ассоциируется прежде всего с микробами, которые призвано уничтожать данное средство. При этом сформированная отрицательная эмоция настолько сильна, настолько зримо проиллюстрирована, что служит мощным мотивом для пользования «Domestos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08000" y="260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Рисунок 1" descr=""/>
          <p:cNvPicPr/>
          <p:nvPr/>
        </p:nvPicPr>
        <p:blipFill>
          <a:blip r:embed="rId1"/>
          <a:stretch/>
        </p:blipFill>
        <p:spPr>
          <a:xfrm>
            <a:off x="7970760" y="6396120"/>
            <a:ext cx="974880" cy="34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http://www.domestos.ru/i/index_nav_pic_item_1.jpg"/>
          <p:cNvPicPr/>
          <p:nvPr/>
        </p:nvPicPr>
        <p:blipFill>
          <a:blip r:embed="rId1"/>
          <a:stretch/>
        </p:blipFill>
        <p:spPr>
          <a:xfrm>
            <a:off x="2268360" y="1204920"/>
            <a:ext cx="4294440" cy="481644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6"/>
          <p:cNvSpPr/>
          <p:nvPr/>
        </p:nvSpPr>
        <p:spPr>
          <a:xfrm>
            <a:off x="2268360" y="6012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икроб в рекламе средства «Domesto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1" descr=""/>
          <p:cNvPicPr/>
          <p:nvPr/>
        </p:nvPicPr>
        <p:blipFill>
          <a:blip r:embed="rId2"/>
          <a:stretch/>
        </p:blipFill>
        <p:spPr>
          <a:xfrm>
            <a:off x="8097840" y="6350040"/>
            <a:ext cx="97488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042920" y="314172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. Персоналия бренда, бренд как челов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емы формирования позиции бре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1041480" y="2093760"/>
            <a:ext cx="88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индивидуальност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" descr=""/>
          <p:cNvPicPr/>
          <p:nvPr/>
        </p:nvPicPr>
        <p:blipFill>
          <a:blip r:embed="rId1"/>
          <a:stretch/>
        </p:blipFill>
        <p:spPr>
          <a:xfrm>
            <a:off x="8028000" y="6394320"/>
            <a:ext cx="976320" cy="4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Line 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>
            <a:off x="0" y="14097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22050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5. Комплексный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образ бренд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5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br>
              <a:rPr sz="2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324000" y="1630440"/>
            <a:ext cx="845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бренда – 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абор связанных с брендом устойчивых рациональных, эмоциональных и сенсорны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увственны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социаций в сознании потреби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415800" y="379872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 – это многомерный портрет бренда который хотели бы поместить в сознание потребителей разработчики бренд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920" y="1041480"/>
            <a:ext cx="4190760" cy="38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взаимоотношений бренда с его потребителями и «капитализация»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создает у целевого потребителя ощущение «своего»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858000" y="1155600"/>
            <a:ext cx="1676520" cy="184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Дэвид Аакер – ведущий мировой специалист в области бренд-менеджмен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На основе позиционирования разработал теорию создания сильных торговых марок «Система идентичности бренд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aker"/>
          <p:cNvPicPr/>
          <p:nvPr/>
        </p:nvPicPr>
        <p:blipFill>
          <a:blip r:embed="rId1"/>
          <a:stretch/>
        </p:blipFill>
        <p:spPr>
          <a:xfrm>
            <a:off x="5105520" y="1143000"/>
            <a:ext cx="136836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7"/>
          <p:cNvGrpSpPr/>
          <p:nvPr/>
        </p:nvGrpSpPr>
        <p:grpSpPr>
          <a:xfrm>
            <a:off x="5029200" y="3124080"/>
            <a:ext cx="3962520" cy="3048120"/>
            <a:chOff x="5029200" y="3124080"/>
            <a:chExt cx="3962520" cy="3048120"/>
          </a:xfrm>
        </p:grpSpPr>
        <p:pic>
          <p:nvPicPr>
            <p:cNvPr id="95" name="Picture 8" descr="Harley2"/>
            <p:cNvPicPr/>
            <p:nvPr/>
          </p:nvPicPr>
          <p:blipFill>
            <a:blip r:embed="rId2"/>
            <a:stretch/>
          </p:blipFill>
          <p:spPr>
            <a:xfrm>
              <a:off x="5029200" y="3124080"/>
              <a:ext cx="3581280" cy="30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Harley1"/>
            <p:cNvPicPr/>
            <p:nvPr/>
          </p:nvPicPr>
          <p:blipFill>
            <a:blip r:embed="rId3"/>
            <a:stretch/>
          </p:blipFill>
          <p:spPr>
            <a:xfrm>
              <a:off x="6858000" y="4673520"/>
              <a:ext cx="21337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0"/>
            <p:cNvSpPr/>
            <p:nvPr/>
          </p:nvSpPr>
          <p:spPr>
            <a:xfrm>
              <a:off x="8534520" y="4648320"/>
              <a:ext cx="4572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6172200" y="4191120"/>
              <a:ext cx="12952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2" descr="Harley"/>
            <p:cNvPicPr/>
            <p:nvPr/>
          </p:nvPicPr>
          <p:blipFill>
            <a:blip r:embed="rId4"/>
            <a:stretch/>
          </p:blipFill>
          <p:spPr>
            <a:xfrm>
              <a:off x="6261120" y="4267080"/>
              <a:ext cx="114300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едина 90-х годов –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5"/>
          <a:stretch/>
        </p:blipFill>
        <p:spPr>
          <a:xfrm>
            <a:off x="8145360" y="6381720"/>
            <a:ext cx="100008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сть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611280" y="1052640"/>
            <a:ext cx="82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. Необходимост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а брен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зва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ующими фактор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797040" y="1944720"/>
            <a:ext cx="784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ка покупок потребителями происходила с использованием критериев, не значимых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производителя для качеств данного това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и могли настойчиво предпочитать товар, объективные качества которого были хуже конкур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647640" y="4581360"/>
            <a:ext cx="7792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 бренда в сознании потребителей возникает стихийно или разрабатывается целенаправлен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исунок 1" descr=""/>
          <p:cNvPicPr/>
          <p:nvPr/>
        </p:nvPicPr>
        <p:blipFill>
          <a:blip r:embed="rId1"/>
          <a:stretch/>
        </p:blipFill>
        <p:spPr>
          <a:xfrm>
            <a:off x="815040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824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50920" y="2124000"/>
            <a:ext cx="87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мплексного образа бренда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ехнология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торая позволяет целенаправленно разработать или  корректировать целостный образ бренда для внедрения е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знан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и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457200" y="1158840"/>
            <a:ext cx="815328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468360" y="1484280"/>
            <a:ext cx="8280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воей сути, 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 бренда – 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лубоко проработанное техническое задание для разработки рекламных материал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433440" y="3282840"/>
            <a:ext cx="8350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оеобразное «мерило», которое позволяет проверить все рекламные материалы на соответствие их сути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492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533520" y="1201680"/>
            <a:ext cx="807696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ые принципы разрабо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ное дополнение каждого элемента, для формирования единого (целостного) образа брен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еленность, в первую очередь, на личность потребителя и построение долгосрочных отношений с н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етание внутренних наиболее сильных и отличительных сторон и возможностей торговой марки с наиболее значимыми и востребованными устремлениями, ценностями, потребностями и ожиданиями потребите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7160" y="25668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79280" y="1282680"/>
            <a:ext cx="815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каждого бренда набор элементов комплексного образа бренда будет индивидуальны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всегда нужен полный комплек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snickers_logo1"/>
          <p:cNvPicPr/>
          <p:nvPr/>
        </p:nvPicPr>
        <p:blipFill>
          <a:blip r:embed="rId1"/>
          <a:stretch/>
        </p:blipFill>
        <p:spPr>
          <a:xfrm>
            <a:off x="2916360" y="3394080"/>
            <a:ext cx="3384360" cy="8269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7"/>
          <p:cNvSpPr/>
          <p:nvPr/>
        </p:nvSpPr>
        <p:spPr>
          <a:xfrm>
            <a:off x="3059280" y="450864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Рисунок 8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" y="1481040"/>
            <a:ext cx="762012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етинговая стратегия торговой м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конкуренты (конкурентные торговые ма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дение конкурентов на ры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ые аудитории, с которыми работают конкур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ционирование и рекламные коммуникации конкур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циации, связанные с товарами конкур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варительная (минимальная)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57200" y="98100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611280" y="1085760"/>
            <a:ext cx="7848360" cy="51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 описания типичного потреб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аботы члено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черты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ситуации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атрибуты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музыкальные обр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словесные обр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желания и меч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определяющие необходимость потребления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факторы принятия решения о потреблении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группы влияния на выбор конкретного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принятия решения выбора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04920" y="990720"/>
            <a:ext cx="8381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Ralf Ringer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лет, менеджер, инженер по образованию, зав. отделом в компании по продаже оборудования. Женат на институтской сокурснице, двое детей, жена работает, старший сын учится в институте, а дочь – в девятом классе. Он много работает, ему интересно, он любит свою работу, считает себя квалифицированным профе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оналом. Интересуется кино, иногда ходит в театр. Не ездит постоянно на автомобиле. Любит выехать на шашлыки летом, иногда ездит на рыбалку. Заботится о здоровье, любит много ходить пешком. Предпочитает классический стиль, носит костюмы, пиджаки – ему не нравятся ультрамодные вещи – главное удобство. Под «не-офисную» одежду приобретает классическую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924280"/>
            <a:ext cx="7439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2. Определение основных терминов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 сфере бренди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8172360" y="6373800"/>
            <a:ext cx="97164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304920" y="1422360"/>
            <a:ext cx="83818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стер Ча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, 40-45 лет, работает, среднего достатка, ценит качество, вызывает доверие. Уверенность в голосе, во взгляде и жестикуляция, она тщательно выбирает чай в магазине, идет домой, зная, что купила то, что надо. Дома ее ждет супруг и дети, старший сын – студент, средний сын лет 15-ти, младшая дочь лет 10-ти. Семья живет в 5-ти этажном доме в 3-х комнатной квартире. Ее зовут Шолпан, супруга Серик, старшего сына – Нурлан, среднего сына Ерлан, дочь – А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95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457200" y="1158840"/>
            <a:ext cx="81532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824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981080" y="2057400"/>
            <a:ext cx="5410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варная категор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к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116000" y="1295280"/>
            <a:ext cx="665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М това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516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981080" y="2355840"/>
            <a:ext cx="5410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тегория услу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фессионализм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офи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ведение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ль одеж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путствующий серви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990720" y="1295280"/>
            <a:ext cx="761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брен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мпании, оказывающей услуг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635120" y="1900080"/>
            <a:ext cx="54100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варн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к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рочный портф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ртиментный портф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ыр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838080" y="12952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онтичн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457200" y="1085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914400" y="1905120"/>
            <a:ext cx="74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бренда —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всеобъемлющая идея и цель существования брен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08000" y="107964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компании «Ростик’c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 лидером на рынке фаст-фуда за сч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я и одобрения аудиторией разных территориальных рынков бренда «Ростик’с». Для этого мы стремимся быть необходимыми и полезными нашим гостям, и не только соответствовать их пожеланиям, но и предвосхищать их ожи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08000" y="3887640"/>
            <a:ext cx="80010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«IKEA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лучшению быта больш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, предлагая им широкий выбор предметов домашней обстановки, отличающихся современным дизайном и функциональностью, по разумным ценам (большинство людей сможет позволить их себе приобрест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" descr="rostix"/>
          <p:cNvPicPr/>
          <p:nvPr/>
        </p:nvPicPr>
        <p:blipFill>
          <a:blip r:embed="rId1"/>
          <a:stretch/>
        </p:blipFill>
        <p:spPr>
          <a:xfrm>
            <a:off x="7308720" y="1444680"/>
            <a:ext cx="1440000" cy="831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IKEA1"/>
          <p:cNvPicPr/>
          <p:nvPr/>
        </p:nvPicPr>
        <p:blipFill>
          <a:blip r:embed="rId2"/>
          <a:stretch/>
        </p:blipFill>
        <p:spPr>
          <a:xfrm>
            <a:off x="7093080" y="4365720"/>
            <a:ext cx="1887480" cy="72540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Рисунок 8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8920" y="21924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609480" y="4149720"/>
            <a:ext cx="685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рговой мар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Ralf Ringer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делия из кожи, в основном обув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забота о комфорте мужч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Ральф4"/>
          <p:cNvPicPr/>
          <p:nvPr/>
        </p:nvPicPr>
        <p:blipFill>
          <a:blip r:embed="rId1"/>
          <a:stretch/>
        </p:blipFill>
        <p:spPr>
          <a:xfrm>
            <a:off x="7667640" y="443700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7"/>
          <p:cNvSpPr/>
          <p:nvPr/>
        </p:nvSpPr>
        <p:spPr>
          <a:xfrm>
            <a:off x="609480" y="1341360"/>
            <a:ext cx="6624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ссия рекламной группы «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ка нестандартной, творческой и, в тоже время, эффективной рекламы, резко повышающую конкурентоспособность наших кли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8" descr="logo"/>
          <p:cNvPicPr/>
          <p:nvPr/>
        </p:nvPicPr>
        <p:blipFill>
          <a:blip r:embed="rId2"/>
          <a:srcRect l="0" t="0" r="51857" b="23849"/>
          <a:stretch/>
        </p:blipFill>
        <p:spPr>
          <a:xfrm>
            <a:off x="7451640" y="1628640"/>
            <a:ext cx="1297080" cy="49860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Рисунок 9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457200" y="115884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03:42:02Z</dcterms:created>
  <dc:creator>Ю. В. Терентьев</dc:creator>
  <dc:description/>
  <dc:language>en-US</dc:language>
  <cp:lastModifiedBy>ИиК</cp:lastModifiedBy>
  <dcterms:modified xsi:type="dcterms:W3CDTF">2023-03-09T10:29:13Z</dcterms:modified>
  <cp:revision>1099</cp:revision>
  <dc:subject>Комплексный образ бренда</dc:subject>
  <dc:title>Заголовок слайда отсутствует</dc:title>
</cp:coreProperties>
</file>